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ipase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signifikan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6200" y="5493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Lipase-Aktivitä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↑ (signifikant über 5000 IU/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03680" y="549360"/>
            <a:ext cx="66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ipase-Aktivitä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↑ (signifikant über 5000 IU/l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ankreas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4" idx="3"/>
            <a:endCxn id="10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ankreaskarz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640" y="6153480"/>
            <a:ext cx="27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U = internationale Einheite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 = Lit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11:03Z</dcterms:modified>
  <cp:revision>333</cp:revision>
  <dc:subject/>
  <dc:title>Vorstellung einer Neuheit</dc:title>
</cp:coreProperties>
</file>